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gif" ContentType="image/gif"/>
  <Override PartName="/ppt/media/image12.jpeg" ContentType="image/jpeg"/>
  <Override PartName="/ppt/media/image16.jpeg" ContentType="image/jpeg"/>
  <Override PartName="/ppt/media/image15.gif" ContentType="image/gif"/>
  <Override PartName="/ppt/media/image14.gif" ContentType="image/gif"/>
  <Override PartName="/ppt/media/image9.gif" ContentType="image/gif"/>
  <Override PartName="/ppt/media/image2.png" ContentType="image/png"/>
  <Override PartName="/ppt/media/image1.jpeg" ContentType="image/jpeg"/>
  <Override PartName="/ppt/media/image7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3.gif" ContentType="image/gif"/>
  <Override PartName="/ppt/media/image6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E79D04-6129-4F68-ABDD-BCC4DB95F7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2D3E37-CF8D-4AD4-AC5F-661ABCDD8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7F1146-ADB8-41C8-B2D4-9D5BFA162E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53A5A0-7E2E-4682-AEDB-81AE55E636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B001A7-E1F0-4DB0-B380-025E27459F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7EFB9E-0A5A-4867-A860-977325C00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4081D8-FD19-4E53-8152-31B4BE093E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1462D0-2B5E-40A9-9DDA-E4BF2734DA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650AD2-9D7C-4329-ACEB-250AB83342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10FA67-4581-48D9-AAD8-2D4B637A5B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25AD-B495-490D-9E32-371F53CD78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8787-207F-4FDA-BE05-6D974775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5448-9B75-4D45-AE48-0B6A1934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58AA1-0430-465B-90DF-D6E018A7BF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ED3D4-2ABE-47E8-BFC5-B798F41FD5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82235-6D85-4304-B9F3-1BF6EFAD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50EB2-2469-4DB4-886E-BE7896A4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CE99A-BEE1-4057-B93D-37421082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51839-2A3A-4541-A0CC-E8AB4558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3B0D4-9EAD-4DF0-8170-504D1496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2790A-FBAC-4810-A315-8F6494E0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05436-0A43-40D4-8823-0CD14A2E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01EB7-15A2-4FE7-ABF7-7EACAC91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8E289-6D16-4DA9-B7D4-2770496D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1296A-41CA-4E7E-BF43-1B1BD288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E0424-347D-4D8D-90D5-591D48C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11C78-1951-4605-89A0-07B23823CB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4719-2844-4455-AF25-A87CEE9D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0CD61-2A27-4559-8204-023B2EBE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B6F7-3154-4B41-A7D7-C75FF9DD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C764F-822D-441F-B5BA-2E20B250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0A64-6FC4-4746-9069-62BD5240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5441-FD6B-41E3-9904-F541A803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E394-CE48-4FBC-BA30-350FF190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.06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56307B-14D3-4394-8C97-4CBFA6AF557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89804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789804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595959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2"/>
          <p:cNvGrpSpPr/>
          <p:nvPr/>
        </p:nvGrpSpPr>
        <p:grpSpPr>
          <a:xfrm>
            <a:off x="523800" y="317520"/>
            <a:ext cx="8307360" cy="6215040"/>
            <a:chOff x="523800" y="317520"/>
            <a:chExt cx="8307360" cy="6215040"/>
          </a:xfrm>
        </p:grpSpPr>
        <p:pic>
          <p:nvPicPr>
            <p:cNvPr id="44" name="Picture 3" descr=""/>
            <p:cNvPicPr/>
            <p:nvPr/>
          </p:nvPicPr>
          <p:blipFill>
            <a:blip r:embed="rId3"/>
            <a:stretch/>
          </p:blipFill>
          <p:spPr>
            <a:xfrm>
              <a:off x="523800" y="317520"/>
              <a:ext cx="8307360" cy="621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4"/>
            <p:cNvSpPr/>
            <p:nvPr/>
          </p:nvSpPr>
          <p:spPr>
            <a:xfrm>
              <a:off x="539640" y="333360"/>
              <a:ext cx="8278920" cy="61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4.06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C62C19-B037-42E8-8D6A-C57000F437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5292720" y="3429000"/>
            <a:ext cx="2857680" cy="2457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68360" y="846000"/>
            <a:ext cx="74883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Добрый день! Я рада снова видеть вас всех. Здравствуйте, садитесь. Самый внимательный и благодарный человек тот, кто сам пережил радость творческих удач и открытий. И я сегодня призываю вас совершить для себя маленькое открытие. Собственный творческий поиск поможет вам в эт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Слайд 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Приветствие: партнёру  по плечу улыбнитесь, а  присутствующим – помахать ру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CFD61B-1F9C-438B-B034-F8C8E60A30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883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СТЕР-КЛАСС «КРЕАТИВНАЯ  РАМКА ДЛЯ ФОТОГРАФИИ ИЗ КОКТЕЙЛЬНЫХ ТРУБОЧЕК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342900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Дата 3"/>
          <p:cNvSpPr/>
          <p:nvPr/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39640" y="3500280"/>
            <a:ext cx="4341960" cy="32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0" y="1197000"/>
            <a:ext cx="914400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2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  <a:ea typeface="Times New Roman"/>
              </a:rPr>
              <a:t>Бросовый материал </a:t>
            </a: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– это все то, что можно было без жалости выкинуть, а можно и использовать, дав волю безграничной фантаз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Georgia"/>
                <a:ea typeface="Times New Roman"/>
              </a:rPr>
              <a:t>Бросовый матери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D1B88F-956F-41F3-978D-C1B3EC794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4762440" cy="3362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5062680" y="2997360"/>
            <a:ext cx="4027320" cy="3247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Georgia"/>
                <a:ea typeface="Times New Roman"/>
              </a:rPr>
              <a:t>Мало кто знает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9280" y="1417680"/>
            <a:ext cx="6531120" cy="451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BFB6EE-0B6D-4822-9C7D-970D56A8DD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•</a:t>
            </a: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картонный лис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•</a:t>
            </a: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трубочки от сока (коктейльные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•</a:t>
            </a: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карандаш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•</a:t>
            </a: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линей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•</a:t>
            </a: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ножниц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•</a:t>
            </a: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канцелярский нож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•</a:t>
            </a: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клеевой писто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Georgia"/>
                <a:ea typeface="Times New Roman"/>
              </a:rPr>
              <a:t>Материалы и инструмен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435640" y="2852640"/>
            <a:ext cx="2997000" cy="2592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6B5AB9-1FAF-4F16-8DD1-C9B7457DB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3333960" cy="3333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"/>
          <p:cNvSpPr/>
          <p:nvPr/>
        </p:nvSpPr>
        <p:spPr>
          <a:xfrm>
            <a:off x="179280" y="1197000"/>
            <a:ext cx="74995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>
              <a:lnSpc>
                <a:spcPct val="100000"/>
              </a:lnSpc>
              <a:spcBef>
                <a:spcPts val="451"/>
              </a:spcBef>
              <a:buClr>
                <a:srgbClr val="262626"/>
              </a:buClr>
              <a:buFont typeface="Wingdings" charset="2"/>
              <a:buChar char=""/>
              <a:tabLst>
                <a:tab algn="l" pos="747720"/>
                <a:tab algn="l" pos="1662120"/>
                <a:tab algn="l" pos="2576520"/>
                <a:tab algn="l" pos="3490920"/>
                <a:tab algn="l" pos="4405320"/>
                <a:tab algn="l" pos="5319720"/>
                <a:tab algn="l" pos="6234120"/>
                <a:tab algn="l" pos="7148520"/>
                <a:tab algn="l" pos="8062920"/>
                <a:tab algn="l" pos="8977320"/>
                <a:tab algn="l" pos="989172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авила безопасной работы с ножниц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>
              <a:lnSpc>
                <a:spcPct val="100000"/>
              </a:lnSpc>
              <a:spcBef>
                <a:spcPts val="451"/>
              </a:spcBef>
              <a:buClr>
                <a:srgbClr val="262626"/>
              </a:buClr>
              <a:buFont typeface="Wingdings" charset="2"/>
              <a:buChar char=""/>
              <a:tabLst>
                <a:tab algn="l" pos="747720"/>
                <a:tab algn="l" pos="1662120"/>
                <a:tab algn="l" pos="2576520"/>
                <a:tab algn="l" pos="3490920"/>
                <a:tab algn="l" pos="4405320"/>
                <a:tab algn="l" pos="5319720"/>
                <a:tab algn="l" pos="6234120"/>
                <a:tab algn="l" pos="7148520"/>
                <a:tab algn="l" pos="8062920"/>
                <a:tab algn="l" pos="8977320"/>
                <a:tab algn="l" pos="989172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 оставляйте ножницы на столе с раскрытыми лезвиям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>
              <a:lnSpc>
                <a:spcPct val="100000"/>
              </a:lnSpc>
              <a:spcBef>
                <a:spcPts val="451"/>
              </a:spcBef>
              <a:buClr>
                <a:srgbClr val="262626"/>
              </a:buClr>
              <a:buFont typeface="Wingdings" charset="2"/>
              <a:buChar char=""/>
              <a:tabLst>
                <a:tab algn="l" pos="747720"/>
                <a:tab algn="l" pos="1662120"/>
                <a:tab algn="l" pos="2576520"/>
                <a:tab algn="l" pos="3490920"/>
                <a:tab algn="l" pos="4405320"/>
                <a:tab algn="l" pos="5319720"/>
                <a:tab algn="l" pos="6234120"/>
                <a:tab algn="l" pos="7148520"/>
                <a:tab algn="l" pos="8062920"/>
                <a:tab algn="l" pos="8977320"/>
                <a:tab algn="l" pos="989172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жницы во время работы кладите справа, кольцами к себ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>
              <a:lnSpc>
                <a:spcPct val="100000"/>
              </a:lnSpc>
              <a:spcBef>
                <a:spcPts val="451"/>
              </a:spcBef>
              <a:buClr>
                <a:srgbClr val="262626"/>
              </a:buClr>
              <a:buFont typeface="Wingdings" charset="2"/>
              <a:buChar char=""/>
              <a:tabLst>
                <a:tab algn="l" pos="747720"/>
                <a:tab algn="l" pos="1662120"/>
                <a:tab algn="l" pos="2576520"/>
                <a:tab algn="l" pos="3490920"/>
                <a:tab algn="l" pos="4405320"/>
                <a:tab algn="l" pos="5319720"/>
                <a:tab algn="l" pos="6234120"/>
                <a:tab algn="l" pos="7148520"/>
                <a:tab algn="l" pos="8062920"/>
                <a:tab algn="l" pos="8977320"/>
                <a:tab algn="l" pos="989172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редавайте ножницы кольцами вперед, держа их за сомкнутые лезв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>
              <a:lnSpc>
                <a:spcPct val="100000"/>
              </a:lnSpc>
              <a:spcBef>
                <a:spcPts val="451"/>
              </a:spcBef>
              <a:buClr>
                <a:srgbClr val="262626"/>
              </a:buClr>
              <a:buFont typeface="Wingdings" charset="2"/>
              <a:buChar char=""/>
              <a:tabLst>
                <a:tab algn="l" pos="747720"/>
                <a:tab algn="l" pos="1662120"/>
                <a:tab algn="l" pos="2576520"/>
                <a:tab algn="l" pos="3490920"/>
                <a:tab algn="l" pos="4405320"/>
                <a:tab algn="l" pos="5319720"/>
                <a:tab algn="l" pos="6234120"/>
                <a:tab algn="l" pos="7148520"/>
                <a:tab algn="l" pos="8062920"/>
                <a:tab algn="l" pos="8977320"/>
                <a:tab algn="l" pos="989172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 приближайте пальцы рук к лезвия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>
              <a:lnSpc>
                <a:spcPct val="100000"/>
              </a:lnSpc>
              <a:spcBef>
                <a:spcPts val="451"/>
              </a:spcBef>
              <a:buClr>
                <a:srgbClr val="262626"/>
              </a:buClr>
              <a:buFont typeface="Wingdings" charset="2"/>
              <a:buChar char=""/>
              <a:tabLst>
                <a:tab algn="l" pos="747720"/>
                <a:tab algn="l" pos="1662120"/>
                <a:tab algn="l" pos="2576520"/>
                <a:tab algn="l" pos="3490920"/>
                <a:tab algn="l" pos="4405320"/>
                <a:tab algn="l" pos="5319720"/>
                <a:tab algn="l" pos="6234120"/>
                <a:tab algn="l" pos="7148520"/>
                <a:tab algn="l" pos="8062920"/>
                <a:tab algn="l" pos="8977320"/>
                <a:tab algn="l" pos="989172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е размахивайте ножницами и не отвлекайтесь во время работы с ни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47720"/>
                <a:tab algn="l" pos="1662120"/>
                <a:tab algn="l" pos="2576520"/>
                <a:tab algn="l" pos="3490920"/>
                <a:tab algn="l" pos="4405320"/>
                <a:tab algn="l" pos="5319720"/>
                <a:tab algn="l" pos="6234120"/>
                <a:tab algn="l" pos="7148520"/>
                <a:tab algn="l" pos="8062920"/>
                <a:tab algn="l" pos="8977320"/>
                <a:tab algn="l" pos="989172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АВИЛА БЕЗОПАСНОЙ РАБОТЫ С КАНЦЕЛЯРСКИМ  НОЖ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47720"/>
                <a:tab algn="l" pos="1662120"/>
                <a:tab algn="l" pos="2576520"/>
                <a:tab algn="l" pos="3490920"/>
                <a:tab algn="l" pos="4405320"/>
                <a:tab algn="l" pos="5319720"/>
                <a:tab algn="l" pos="6234120"/>
                <a:tab algn="l" pos="7148520"/>
                <a:tab algn="l" pos="8062920"/>
                <a:tab algn="l" pos="8977320"/>
                <a:tab algn="l" pos="989172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Выдвигать небольшую часть лезв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47720"/>
                <a:tab algn="l" pos="1662120"/>
                <a:tab algn="l" pos="2576520"/>
                <a:tab algn="l" pos="3490920"/>
                <a:tab algn="l" pos="4405320"/>
                <a:tab algn="l" pos="5319720"/>
                <a:tab algn="l" pos="6234120"/>
                <a:tab algn="l" pos="7148520"/>
                <a:tab algn="l" pos="8062920"/>
                <a:tab algn="l" pos="8977320"/>
                <a:tab algn="l" pos="989172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Работать канцелярским ножом на рабочей дос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47720"/>
                <a:tab algn="l" pos="1662120"/>
                <a:tab algn="l" pos="2576520"/>
                <a:tab algn="l" pos="3490920"/>
                <a:tab algn="l" pos="4405320"/>
                <a:tab algn="l" pos="5319720"/>
                <a:tab algn="l" pos="6234120"/>
                <a:tab algn="l" pos="7148520"/>
                <a:tab algn="l" pos="8062920"/>
                <a:tab algn="l" pos="8977320"/>
                <a:tab algn="l" pos="989172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3. Выполняя разрезы, крепко держать нож одной рукой, а второй - материал с которым работаеш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47720"/>
                <a:tab algn="l" pos="1662120"/>
                <a:tab algn="l" pos="2576520"/>
                <a:tab algn="l" pos="3490920"/>
                <a:tab algn="l" pos="4405320"/>
                <a:tab algn="l" pos="5319720"/>
                <a:tab algn="l" pos="6234120"/>
                <a:tab algn="l" pos="7148520"/>
                <a:tab algn="l" pos="8062920"/>
                <a:tab algn="l" pos="8977320"/>
                <a:tab algn="l" pos="989172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4. В случае, когда нож находится в нерабочем состоянии, лезвие должно быть спрятано внутр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>
              <a:lnSpc>
                <a:spcPct val="100000"/>
              </a:lnSpc>
              <a:spcBef>
                <a:spcPts val="451"/>
              </a:spcBef>
              <a:buClr>
                <a:srgbClr val="262626"/>
              </a:buClr>
              <a:buFont typeface="Wingdings" charset="2"/>
              <a:buChar char=""/>
              <a:tabLst>
                <a:tab algn="l" pos="747720"/>
                <a:tab algn="l" pos="1662120"/>
                <a:tab algn="l" pos="2576520"/>
                <a:tab algn="l" pos="3490920"/>
                <a:tab algn="l" pos="4405320"/>
                <a:tab algn="l" pos="5319720"/>
                <a:tab algn="l" pos="6234120"/>
                <a:tab algn="l" pos="7148520"/>
                <a:tab algn="l" pos="8062920"/>
                <a:tab algn="l" pos="8977320"/>
                <a:tab algn="l" pos="989172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авила безопасной работы с клеевым пистолет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>
              <a:lnSpc>
                <a:spcPct val="100000"/>
              </a:lnSpc>
              <a:spcBef>
                <a:spcPts val="451"/>
              </a:spcBef>
              <a:buClr>
                <a:srgbClr val="262626"/>
              </a:buClr>
              <a:buFont typeface="Wingdings" charset="2"/>
              <a:buChar char=""/>
              <a:tabLst>
                <a:tab algn="l" pos="747720"/>
                <a:tab algn="l" pos="1662120"/>
                <a:tab algn="l" pos="2576520"/>
                <a:tab algn="l" pos="3490920"/>
                <a:tab algn="l" pos="4405320"/>
                <a:tab algn="l" pos="5319720"/>
                <a:tab algn="l" pos="6234120"/>
                <a:tab algn="l" pos="7148520"/>
                <a:tab algn="l" pos="8062920"/>
                <a:tab algn="l" pos="8977320"/>
                <a:tab algn="l" pos="989172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еред началом работы проверьте, что длины шнура достаточно, чтобы работать без его натяж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>
              <a:lnSpc>
                <a:spcPct val="100000"/>
              </a:lnSpc>
              <a:spcBef>
                <a:spcPts val="451"/>
              </a:spcBef>
              <a:buClr>
                <a:srgbClr val="262626"/>
              </a:buClr>
              <a:buFont typeface="Wingdings" charset="2"/>
              <a:buChar char=""/>
              <a:tabLst>
                <a:tab algn="l" pos="747720"/>
                <a:tab algn="l" pos="1662120"/>
                <a:tab algn="l" pos="2576520"/>
                <a:tab algn="l" pos="3490920"/>
                <a:tab algn="l" pos="4405320"/>
                <a:tab algn="l" pos="5319720"/>
                <a:tab algn="l" pos="6234120"/>
                <a:tab algn="l" pos="7148520"/>
                <a:tab algn="l" pos="8062920"/>
                <a:tab algn="l" pos="8977320"/>
                <a:tab algn="l" pos="989172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леевой пистолет ставьте на ножку-подставку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47720"/>
                <a:tab algn="l" pos="1662120"/>
                <a:tab algn="l" pos="2576520"/>
                <a:tab algn="l" pos="3490920"/>
                <a:tab algn="l" pos="4405320"/>
                <a:tab algn="l" pos="5319720"/>
                <a:tab algn="l" pos="6234120"/>
                <a:tab algn="l" pos="7148520"/>
                <a:tab algn="l" pos="8062920"/>
                <a:tab algn="l" pos="8977320"/>
                <a:tab algn="l" pos="989172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 Во время работы пистолета, носик сильно нагревается! Поэтому не прикасайтесь к носику клеевого пистолета и к расплавленному клею во избежание получения ожог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669900"/>
                </a:solidFill>
                <a:latin typeface="Georgia"/>
                <a:ea typeface="Times New Roman"/>
              </a:rPr>
              <a:t>Главные правила мас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7D239C-867E-4B60-A5D6-D2521315FA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6588000" y="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"/>
          <p:cNvSpPr/>
          <p:nvPr/>
        </p:nvSpPr>
        <p:spPr>
          <a:xfrm>
            <a:off x="588960" y="330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Georgia"/>
                <a:ea typeface="Times New Roman"/>
              </a:rPr>
              <a:t>Практическая раб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1"/>
          <p:cNvSpPr/>
          <p:nvPr/>
        </p:nvSpPr>
        <p:spPr>
          <a:xfrm>
            <a:off x="250920" y="3105000"/>
            <a:ext cx="249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Берем картонный лист (у меня формата А4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2720880" y="3257640"/>
            <a:ext cx="265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кладываем его пополам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еза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5160960" y="3257640"/>
            <a:ext cx="3659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С одной стороны с помощью линейки и карандаша рисуем прямоугольник (можно другую фигуру, например, квадрат). Я отступала слева и справа по 3 см. от края, а сверху и снизу по 2,5 см. Вырезаем фигуру – это место под фотографию. Вырезанный картонный прямоугольник не выбрасывайте – он нам еще пригодитс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2" descr=""/>
          <p:cNvPicPr/>
          <p:nvPr/>
        </p:nvPicPr>
        <p:blipFill>
          <a:blip r:embed="rId2"/>
          <a:stretch/>
        </p:blipFill>
        <p:spPr>
          <a:xfrm>
            <a:off x="588960" y="1235160"/>
            <a:ext cx="1552680" cy="207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"/>
          <p:cNvPicPr/>
          <p:nvPr/>
        </p:nvPicPr>
        <p:blipFill>
          <a:blip r:embed="rId3"/>
          <a:stretch/>
        </p:blipFill>
        <p:spPr>
          <a:xfrm>
            <a:off x="2576520" y="1428840"/>
            <a:ext cx="2502000" cy="1876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/>
          <p:cNvPicPr/>
          <p:nvPr/>
        </p:nvPicPr>
        <p:blipFill>
          <a:blip r:embed="rId4"/>
          <a:stretch/>
        </p:blipFill>
        <p:spPr>
          <a:xfrm>
            <a:off x="5829480" y="1428840"/>
            <a:ext cx="2503440" cy="1876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1800000" cy="2251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0" y="1197000"/>
            <a:ext cx="6419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2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Schoolbook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ефлексия. (Слайд 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2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 вас на столах лежат разноцветные кружочки. Выберите тот, который соответствует, на ваш взгляд, актуальности и технике мастер-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2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озовый лепесток- если мастер-класс прошел плодотворно, вы получили новые знания, которые будете использовать в своей рабо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2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елтый лепесток - тематика мастер-класса для вас знакома, вы давно используете данную технику в своей работе и готовы поделиться опы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2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олубой лепесток– мастер-класс для вас был интересен, однако использование данной техники в работе с детьми считаете неумест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2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6804000" y="2492280"/>
            <a:ext cx="1873440" cy="1890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1A4638-BA35-4A9B-B8A9-AEB7BEA3E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0" y="260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Georgia"/>
                <a:ea typeface="Times New Roman"/>
              </a:rPr>
              <a:t>Спасибо за урок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F1B728-796B-4461-BD07-B5BFF2528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C:\Users\Надежда\Desktop\oJ8bYPh_JBo.jpg"/>
          <p:cNvPicPr/>
          <p:nvPr/>
        </p:nvPicPr>
        <p:blipFill>
          <a:blip r:embed="rId1"/>
          <a:stretch/>
        </p:blipFill>
        <p:spPr>
          <a:xfrm>
            <a:off x="369720" y="1363680"/>
            <a:ext cx="8404560" cy="5357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14:56:12Z</dcterms:created>
  <dc:creator>Компас</dc:creator>
  <dc:description/>
  <dc:language>en-US</dc:language>
  <cp:lastModifiedBy>Пользователь Windows</cp:lastModifiedBy>
  <dcterms:modified xsi:type="dcterms:W3CDTF">2020-11-17T18:24:38Z</dcterms:modified>
  <cp:revision>101</cp:revision>
  <dc:subject/>
  <dc:title>Слайд 1</dc:title>
</cp:coreProperties>
</file>